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2ACE0-74EA-4E35-A4E3-F96769549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56FF5-840E-426C-99B5-8AC0A8008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EE197-AE2B-4919-A803-B1087A894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4CBB0-C85C-4395-ADA4-C7A7752E7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AE8FC-845E-41A9-A768-847F45F88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F0518-6AD8-482D-B1CA-10674BEE8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88794-B589-4A20-AED2-BBAEFFBDD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56FA1-37D0-4C69-B219-EBCB280C0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CDDF5-52B3-43E6-9802-CF060EC34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A6316-C518-40A9-96A7-7AA995711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ADDEF-ADA8-4283-968B-B2D516469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CC8A5-071F-4ECA-8751-77785B8CC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B326B-B7AA-4696-A269-96FF15F10D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87280" y="189000"/>
            <a:ext cx="2592720" cy="136692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IMEN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GRATOR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780000" y="836640"/>
            <a:ext cx="101592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788000" y="404640"/>
            <a:ext cx="1296720" cy="86364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 person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nno a vivere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 altro pae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V="1">
            <a:off x="6084720" y="475920"/>
            <a:ext cx="5083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588000" y="260280"/>
            <a:ext cx="790560" cy="57636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ov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 lavo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084720" y="836640"/>
            <a:ext cx="621000" cy="57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732720" y="981000"/>
            <a:ext cx="874440" cy="136836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Fuggire 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situazion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diffici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(guerre…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763640" y="1484280"/>
            <a:ext cx="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187280" y="2421000"/>
            <a:ext cx="1943280" cy="1439640"/>
          </a:xfrm>
          <a:prstGeom prst="rect">
            <a:avLst/>
          </a:prstGeom>
          <a:solidFill>
            <a:srgbClr val="d073e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 chi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IGRAZI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ando le persone d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 paese se ne van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’estero a vivere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rcare lavo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835280" y="386064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042920" y="4437000"/>
            <a:ext cx="1944720" cy="1152720"/>
          </a:xfrm>
          <a:prstGeom prst="rect">
            <a:avLst/>
          </a:prstGeom>
          <a:solidFill>
            <a:srgbClr val="d073e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i italiani sono sta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igranti in molti paes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,anche se meno di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a volta,lo so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che oggi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987640" y="494172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924360" y="4797360"/>
            <a:ext cx="1297080" cy="360360"/>
          </a:xfrm>
          <a:prstGeom prst="rect">
            <a:avLst/>
          </a:prstGeom>
          <a:solidFill>
            <a:srgbClr val="d073e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e principa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34920" y="5229360"/>
            <a:ext cx="79236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0" y="5229360"/>
            <a:ext cx="712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292720" y="5229360"/>
            <a:ext cx="35892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59280" y="5877000"/>
            <a:ext cx="1008000" cy="576360"/>
          </a:xfrm>
          <a:prstGeom prst="rect">
            <a:avLst/>
          </a:prstGeom>
          <a:solidFill>
            <a:srgbClr val="d073e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es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urope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356000" y="5877000"/>
            <a:ext cx="720720" cy="216000"/>
          </a:xfrm>
          <a:prstGeom prst="rect">
            <a:avLst/>
          </a:prstGeom>
          <a:solidFill>
            <a:srgbClr val="d073e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.S.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651640" y="5734080"/>
            <a:ext cx="865080" cy="358920"/>
          </a:xfrm>
          <a:prstGeom prst="rect">
            <a:avLst/>
          </a:prstGeom>
          <a:solidFill>
            <a:srgbClr val="d073e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stral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19640" y="1413000"/>
            <a:ext cx="93636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08360" y="2060640"/>
            <a:ext cx="1800360" cy="1368360"/>
          </a:xfrm>
          <a:prstGeom prst="rect">
            <a:avLst/>
          </a:prstGeom>
          <a:solidFill>
            <a:srgbClr val="a5398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 chiam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MIGRAZION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ando in un pae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ivano stranieri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vere e cerc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vo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508720" y="3284640"/>
            <a:ext cx="1368360" cy="93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877080" y="3933720"/>
            <a:ext cx="1224000" cy="1224000"/>
          </a:xfrm>
          <a:prstGeom prst="rect">
            <a:avLst/>
          </a:prstGeom>
          <a:solidFill>
            <a:srgbClr val="a5398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Ital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iva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migra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prattut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7092720" y="515772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740720" y="5157720"/>
            <a:ext cx="79200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588000" y="5661000"/>
            <a:ext cx="936720" cy="576360"/>
          </a:xfrm>
          <a:prstGeom prst="rect">
            <a:avLst/>
          </a:prstGeom>
          <a:solidFill>
            <a:srgbClr val="a5398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urop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rot="20298600">
            <a:off x="7710480" y="5694120"/>
            <a:ext cx="1260360" cy="504720"/>
          </a:xfrm>
          <a:prstGeom prst="rect">
            <a:avLst/>
          </a:prstGeom>
          <a:solidFill>
            <a:srgbClr val="a5398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rica/Alb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05T07:56:51Z</dcterms:created>
  <dc:creator>studente</dc:creator>
  <dc:description/>
  <dc:language>en-US</dc:language>
  <cp:lastModifiedBy>studente</cp:lastModifiedBy>
  <dcterms:modified xsi:type="dcterms:W3CDTF">2017-01-09T08:40:46Z</dcterms:modified>
  <cp:revision>3</cp:revision>
  <dc:subject/>
  <dc:title>Diapositiva 1</dc:title>
</cp:coreProperties>
</file>